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3C4-D3BF-4C7F-A935-F826CF68A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E50E-6FFF-4FD7-B568-03EDC190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B3E-304B-475E-82C5-57A2C1C11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19E3-0B68-4403-BB95-962CAB9D4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2A5-1289-415B-82B0-B93DD4F5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867-BDE2-4CDC-9A98-80669F73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114-CA4C-458D-B43C-F9CC3E2B4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835-FFB1-467C-8C4A-9DFFB99D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1F9-911E-42D4-9B44-96E8ECB1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053-6C8B-41FF-836B-C485DF91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5BC-6F26-49B7-AD6D-E822C2C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12A-D206-4E30-A681-E288E866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0010-8FA7-4A8C-8B4C-2E259A26A4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1665360" y="83340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表内乘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1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400120" y="1914480"/>
            <a:ext cx="2085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楷体_GB2312"/>
              </a:rPr>
              <a:t>整理和复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85760" y="5325480"/>
            <a:ext cx="8929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表是小英整理的一部分，你知道小英想要怎样整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185760" y="579708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能把余下的口诀补充完整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92040" y="15573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整理口诀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35"/>
          <p:cNvPicPr/>
          <p:nvPr/>
        </p:nvPicPr>
        <p:blipFill>
          <a:blip r:embed="rId1"/>
          <a:stretch/>
        </p:blipFill>
        <p:spPr>
          <a:xfrm>
            <a:off x="971640" y="2664000"/>
            <a:ext cx="7129440" cy="22874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457200" y="490680"/>
            <a:ext cx="81154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一、整理口诀，发现规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169920" y="503028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观察表格，你有什么发现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169920" y="548568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他是怎么观察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92040" y="15573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发现规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69920" y="593676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还有不同的想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66-2"/>
          <p:cNvPicPr/>
          <p:nvPr/>
        </p:nvPicPr>
        <p:blipFill>
          <a:blip r:embed="rId1"/>
          <a:stretch/>
        </p:blipFill>
        <p:spPr>
          <a:xfrm>
            <a:off x="998640" y="2421000"/>
            <a:ext cx="7543800" cy="2209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457200" y="490680"/>
            <a:ext cx="81154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一、整理口诀，发现规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1509840" y="5867280"/>
            <a:ext cx="7142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7" descr="66-2"/>
          <p:cNvPicPr/>
          <p:nvPr/>
        </p:nvPicPr>
        <p:blipFill>
          <a:blip r:embed="rId1"/>
          <a:stretch/>
        </p:blipFill>
        <p:spPr>
          <a:xfrm>
            <a:off x="998640" y="2421000"/>
            <a:ext cx="7543800" cy="22096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392040" y="15573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沟通口诀与算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68120" y="6139440"/>
            <a:ext cx="74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问题：任选一句口诀，你能说出两个乘法算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4" descr="12"/>
          <p:cNvPicPr/>
          <p:nvPr/>
        </p:nvPicPr>
        <p:blipFill>
          <a:blip r:embed="rId2"/>
          <a:stretch/>
        </p:blipFill>
        <p:spPr>
          <a:xfrm>
            <a:off x="2781360" y="4437000"/>
            <a:ext cx="1503360" cy="1712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11"/>
          <p:cNvPicPr/>
          <p:nvPr/>
        </p:nvPicPr>
        <p:blipFill>
          <a:blip r:embed="rId3"/>
          <a:stretch/>
        </p:blipFill>
        <p:spPr>
          <a:xfrm>
            <a:off x="4932360" y="4443480"/>
            <a:ext cx="1362240" cy="17938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457200" y="490680"/>
            <a:ext cx="811548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一、整理口诀，发现规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415800"/>
            <a:ext cx="81867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借助规律，排列算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85840" y="539064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你能接着整理这些算式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85840" y="587016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说说看，你的算式是按什么规律排列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1" descr="38"/>
          <p:cNvPicPr/>
          <p:nvPr/>
        </p:nvPicPr>
        <p:blipFill>
          <a:blip r:embed="rId1"/>
          <a:srcRect l="0" t="146" r="0" b="0"/>
          <a:stretch/>
        </p:blipFill>
        <p:spPr>
          <a:xfrm>
            <a:off x="611280" y="1461960"/>
            <a:ext cx="7399080" cy="3652920"/>
          </a:xfrm>
          <a:prstGeom prst="rect">
            <a:avLst/>
          </a:prstGeom>
          <a:ln w="0">
            <a:noFill/>
          </a:ln>
        </p:spPr>
      </p:pic>
      <p:sp>
        <p:nvSpPr>
          <p:cNvPr id="70" name="矩形 5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8" descr="37"/>
          <p:cNvPicPr/>
          <p:nvPr/>
        </p:nvPicPr>
        <p:blipFill>
          <a:blip r:embed="rId1"/>
          <a:stretch/>
        </p:blipFill>
        <p:spPr>
          <a:xfrm>
            <a:off x="539640" y="2565360"/>
            <a:ext cx="7634520" cy="23385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巩固练习，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92040" y="15573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看谁算得又对又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1571760" y="2502000"/>
            <a:ext cx="92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"/>
          <p:cNvSpPr/>
          <p:nvPr/>
        </p:nvSpPr>
        <p:spPr>
          <a:xfrm>
            <a:off x="1571760" y="2949480"/>
            <a:ext cx="85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1571760" y="339084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1571760" y="3841920"/>
            <a:ext cx="85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1571760" y="429264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3708360" y="2492280"/>
            <a:ext cx="9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3706920" y="294948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4"/>
          <p:cNvSpPr/>
          <p:nvPr/>
        </p:nvSpPr>
        <p:spPr>
          <a:xfrm>
            <a:off x="3706920" y="338940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5"/>
          <p:cNvSpPr/>
          <p:nvPr/>
        </p:nvSpPr>
        <p:spPr>
          <a:xfrm>
            <a:off x="3706920" y="3838680"/>
            <a:ext cx="928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6"/>
          <p:cNvSpPr/>
          <p:nvPr/>
        </p:nvSpPr>
        <p:spPr>
          <a:xfrm>
            <a:off x="3706920" y="429264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7"/>
          <p:cNvSpPr/>
          <p:nvPr/>
        </p:nvSpPr>
        <p:spPr>
          <a:xfrm>
            <a:off x="5810400" y="250020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5807160" y="294948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5807160" y="338940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5807160" y="3838680"/>
            <a:ext cx="57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1"/>
          <p:cNvSpPr/>
          <p:nvPr/>
        </p:nvSpPr>
        <p:spPr>
          <a:xfrm>
            <a:off x="5807160" y="429264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7920000" y="250020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3"/>
          <p:cNvSpPr/>
          <p:nvPr/>
        </p:nvSpPr>
        <p:spPr>
          <a:xfrm>
            <a:off x="7920000" y="338940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4"/>
          <p:cNvSpPr/>
          <p:nvPr/>
        </p:nvSpPr>
        <p:spPr>
          <a:xfrm>
            <a:off x="7920000" y="294948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5"/>
          <p:cNvSpPr/>
          <p:nvPr/>
        </p:nvSpPr>
        <p:spPr>
          <a:xfrm>
            <a:off x="7920000" y="3838680"/>
            <a:ext cx="71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6"/>
          <p:cNvSpPr/>
          <p:nvPr/>
        </p:nvSpPr>
        <p:spPr>
          <a:xfrm>
            <a:off x="7920000" y="429264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3"/>
          <p:cNvGrpSpPr/>
          <p:nvPr/>
        </p:nvGrpSpPr>
        <p:grpSpPr>
          <a:xfrm>
            <a:off x="468360" y="5013360"/>
            <a:ext cx="4464000" cy="1353240"/>
            <a:chOff x="468360" y="5013360"/>
            <a:chExt cx="4464000" cy="1353240"/>
          </a:xfrm>
        </p:grpSpPr>
        <p:pic>
          <p:nvPicPr>
            <p:cNvPr id="95" name="Picture 30" descr="女天使副本"/>
            <p:cNvPicPr/>
            <p:nvPr/>
          </p:nvPicPr>
          <p:blipFill>
            <a:blip r:embed="rId2"/>
            <a:stretch/>
          </p:blipFill>
          <p:spPr>
            <a:xfrm>
              <a:off x="468360" y="501336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AutoShape 31"/>
            <p:cNvSpPr/>
            <p:nvPr/>
          </p:nvSpPr>
          <p:spPr>
            <a:xfrm>
              <a:off x="2124000" y="5554800"/>
              <a:ext cx="2808360" cy="811800"/>
            </a:xfrm>
            <a:prstGeom prst="wedgeRoundRectCallout">
              <a:avLst>
                <a:gd name="adj1" fmla="val -57842"/>
                <a:gd name="adj2" fmla="val 948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一算，说一说用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哪句口诀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5" descr="36"/>
          <p:cNvPicPr/>
          <p:nvPr/>
        </p:nvPicPr>
        <p:blipFill>
          <a:blip r:embed="rId1"/>
          <a:stretch/>
        </p:blipFill>
        <p:spPr>
          <a:xfrm>
            <a:off x="611280" y="2997360"/>
            <a:ext cx="7956360" cy="10411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三、巩固练习，综合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392040" y="155736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想一想，算一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2036880" y="2965320"/>
            <a:ext cx="785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2035080" y="3465360"/>
            <a:ext cx="857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5133960" y="2965320"/>
            <a:ext cx="71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133960" y="3465360"/>
            <a:ext cx="785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8047080" y="2965320"/>
            <a:ext cx="804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8045280" y="3465360"/>
            <a:ext cx="785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9"/>
          <p:cNvGrpSpPr/>
          <p:nvPr/>
        </p:nvGrpSpPr>
        <p:grpSpPr>
          <a:xfrm>
            <a:off x="684360" y="4454640"/>
            <a:ext cx="3566880" cy="1514880"/>
            <a:chOff x="684360" y="4454640"/>
            <a:chExt cx="3566880" cy="1514880"/>
          </a:xfrm>
        </p:grpSpPr>
        <p:pic>
          <p:nvPicPr>
            <p:cNvPr id="107" name="Picture 16" descr="女天使副本"/>
            <p:cNvPicPr/>
            <p:nvPr/>
          </p:nvPicPr>
          <p:blipFill>
            <a:blip r:embed="rId2"/>
            <a:stretch/>
          </p:blipFill>
          <p:spPr>
            <a:xfrm>
              <a:off x="684360" y="445464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AutoShape 17"/>
            <p:cNvSpPr/>
            <p:nvPr/>
          </p:nvSpPr>
          <p:spPr>
            <a:xfrm>
              <a:off x="2268360" y="5157720"/>
              <a:ext cx="1982880" cy="811800"/>
            </a:xfrm>
            <a:prstGeom prst="wedgeRoundRectCallout">
              <a:avLst>
                <a:gd name="adj1" fmla="val -63990"/>
                <a:gd name="adj2" fmla="val 691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说一说，你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怎么算的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15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008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716040" y="2494080"/>
            <a:ext cx="81039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7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十五，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、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5"/>
          <p:cNvSpPr/>
          <p:nvPr/>
        </p:nvSpPr>
        <p:spPr>
          <a:xfrm>
            <a:off x="1357200" y="5715000"/>
            <a:ext cx="71460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0:24:18Z</dcterms:created>
  <dc:creator>PC</dc:creator>
  <dc:description/>
  <dc:language>en-US</dc:language>
  <cp:lastModifiedBy>万润仪器贸易公司</cp:lastModifiedBy>
  <dcterms:modified xsi:type="dcterms:W3CDTF">2018-09-01T10:24:1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